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2068-BC0B-45ED-92CF-3B1F7447F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FDC3-F538-4462-8224-F52C5ACE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43162-E288-4B05-BA2C-C4D545FC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973E9-BAC8-4772-A14B-1436665B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DD5696-286A-46D0-A3C7-F5737C3F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3E612-CA75-445B-A0DD-DE8D3D86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4BBE42-B181-4993-A78D-3093381E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1B03C7-DD29-466C-980B-253BF3CD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345DED-1F7A-4E36-ABAB-FF248DA1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17A16-0EB8-4DAD-A03B-5A8265405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02BA40-33CD-4CAD-9489-197AE199E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9BF31-4ACB-4CB6-86E4-C04E3E034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FA55-7A40-4E37-934C-0720635D7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7234CE-9995-419A-82A3-DF5DEB1E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0912F-3BF6-4374-A06B-E11E63CD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9DB889-D46E-4332-9563-CC582ED5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E929ED-3AE2-4C30-AC4E-59C4D8A7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386BF9-5F55-4CDA-A07A-0005487F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E949C5-A13D-4FE9-A579-EDE68B43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105F6D-7D36-418D-B390-112846DB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75007D-78A7-491E-A2C9-024AB3A3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5AE59-0A41-485E-B3CB-DC5FD653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899305-2D80-4020-AA2C-380CAC164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EB02-D954-4AC8-8002-E08101B7F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7EA2F8-C106-48C2-A64B-31B3707A3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B2852-1605-4298-A50E-EFD6E876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3FE0D-CF1D-48A0-AED5-AF888714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11E54-72CF-4CDE-B69F-E9F08566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8D99B-B907-4E22-824B-8A902550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2A462-154E-46A5-BE78-263463CE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ED5A0B-A98C-456F-9966-435B84DB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E9243-A946-48A8-8F5B-3EFF26EA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62747-4AE6-41B3-BCD8-33020133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45D99-F6A5-4CA8-A2CF-B82AD9A9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3629-B46E-4C1B-8B28-3F8C00052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8B960-1BB1-40F4-8042-1617A006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E5534-48FA-4B28-B9FB-DB18F0A7F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0A405-AEFA-4316-8A15-F9681CEBE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73F870-EEAF-4AE9-A531-B906E46FE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DDE3DB-1042-40CF-91D1-81D87CBB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5B3BCF-894F-4D53-B535-62B6797D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99549F-5E4F-4F89-9D91-02484960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2B044A-F9AD-4573-B34B-7E55CD39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F052CB-C9AC-4D5C-80C3-81ACE42C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45CD01-580D-4CD8-BA47-E121E0EC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7AE6-64CC-4B09-93AA-9590BF2D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DE65AF-4940-4721-88CA-58BA4AE0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1A1FC6-2638-47D1-BBEC-7CD7DA72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4C6DE3-6031-4AF0-97C9-EE001183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5B54A9-BC99-4F03-99A5-4353B63EA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85B4D4-AF69-4370-8040-A2AFFC0A3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677C72-09FF-4629-A184-1608604BA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6171C7-D195-4CE6-B157-E0628BCF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18035F-D70D-4A0C-B9B7-F1DFCF2F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9FF4D8-11E3-429B-8708-7B1693A7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57BA47-3626-4693-9D82-00FE80C7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E4C3-EB08-4224-88B6-14894E6A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CC9A92-ACA6-477D-B268-F4B072E1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81DBEC-B7D4-49AF-8543-CF84A83C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BE6CA5-53C2-49D3-814C-0E9A8507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DDF420-46C0-4957-A701-1C2137F1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1708C2-3AF0-44F9-A1E2-F96B62C3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FBBBF2-B0A3-44AA-B9CE-A358581C9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83315A-3EFF-46AD-9A85-3CF92B053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5B62AA-C6FD-403C-A904-0A016CE16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775EB6-8237-48A5-A177-2B90DDE4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0C29BB-AF1B-474C-970E-6BC0E02E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2BEA-FDBF-419B-AC78-C7DDF7E7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B5682E-0843-41CC-9E29-12C63215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29B01B-9D9C-44BA-8548-B4F069CA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4B0048-758A-41E9-8AB4-609D0C39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74D230-13DF-4C91-B48B-480D1079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355BB1-04FA-479F-9B81-EF5D2916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883160-4394-45D8-982C-2CE5687F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BD6DC6-ECF3-46C8-BF4A-14C508ED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EA86A6-85D3-47E2-A5C7-C93748E5C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C56FA6-5AAC-4A47-A933-30ACEF426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70D343-96D9-4603-BBCB-40C8AADAC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7583-9D36-4BF0-919F-647C4CD6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BF3BF9-2ADC-48BA-9981-FA0B3353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4AB828-7D09-4039-9A76-FFF81761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342FBA-85DB-4F67-8E52-BB1A0730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2EAB7F-165C-4220-B40B-F9A6FC00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468462-42A7-4104-9496-63B20E86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35A647-A122-4EE5-BE7D-6EC5094E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E2D65A-BF18-4D7F-B133-1626E0D6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76DAB8-E186-4464-A3E7-8DC2D047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B7735D-BB3A-415C-933C-264AC84C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265BF5-D9AC-4B32-A644-7397F7080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1FEF-D264-4A12-9AB7-6F84086C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0A9E6C-5E85-4CA1-BA70-90F90E4F7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392F6A-3870-4350-9B76-E81D0F043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7209C1-49A2-4719-A90F-D0DDB30B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3F2DB1-C1A3-49FE-81B9-E951A3A5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90CC18-4072-40F5-BB27-91E4993F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887823-A373-4580-90C6-15BECD5A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34A67E-B668-48F4-AD28-2C052695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E26130-00CB-4A7F-8F86-CC68F271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08C9E4-AE72-4C1A-91DA-47161672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2A4AEA-7C8A-406C-9EB5-4CBEB1E8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5A10-38CC-4428-8187-2CC920E7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4ECD75-3B4E-4515-A7EA-A9B2313C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E461C7-B927-411E-A783-638FBE36D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CBE61C-D171-42F4-B471-C239C2569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232B55-27B8-4121-93EA-AD88ABC85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800644-41D4-4A36-8CF0-3B3D6302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453700-A887-4A58-9FD2-329C123F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D8C1E4-14A6-48A8-8D69-6D109683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659CDF-01B2-4A40-A27E-99DAE976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2EAF99-F87B-4925-83C1-FE4C371C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84646F-1C58-49E9-AB9B-B7C57055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EA2F-7D17-4319-ADFA-532731A4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5A25-6D0F-4E85-9620-CBD10102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CDBA7D-5325-45B0-93E2-FDD124A9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5C4D83-724E-4D92-B9F9-80C53E40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845A2E-8476-4DB8-8519-75A44C2E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7412CC-7067-483E-8FC1-ED9970FC2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F22C55-F269-4152-8350-2850637BD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C0E2D5D-0068-45EA-8FA9-BB22EDFED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2FE39FC-DA08-46C5-847F-84768CFE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498246F-9D3F-4A52-A547-8F059E06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CA12691-59CF-43C4-B938-B45FBF3C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3126B9B-3F7E-4E55-9B64-2DF87A1F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199C-D128-407A-B6EE-8851AA23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1AF1037-A3EB-4048-9DBF-B7B69E28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C611BAD-5A0A-416D-A9A6-1F9E579F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6398FBC-B5A3-4F05-867D-F41254AE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9EF833A-45FC-4237-845C-E53C2037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22B0765-698D-4A24-8742-0793F672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C467D7C-51FA-4AB2-B416-8668503E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033DAAF-E051-459B-BA5A-A894E1F89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7E30-ADEF-432E-959C-A03BD132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0BF9-6339-4E49-933F-44EB9433C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584A-7F14-48A7-9939-83F9E5544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046BB-7C7E-4501-9BC5-29C30BC14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8FCF3-7658-4395-A620-C7F81B3E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74436-70E9-4B70-9698-AC6B07A9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84688-27A7-4C5D-ADA7-142E4B4F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44EA1-79A5-4D10-A16D-43818A54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5886-F343-4CE2-B136-DC31AA3C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C4F9A-5DE2-49DE-B89F-D71FB9CA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25BCB-ACAC-4788-9607-BE094F75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EC384-6913-4E0E-A47B-D62D4AA6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8F928-BDD4-4E7A-8E40-3AA512D5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8D8AC-55CD-4719-AE7D-37295A19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BC385-EB60-4A60-9C67-B3E5D3CF2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F6930-A822-41E5-B2B7-65995CB65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B70CF-6AAB-450F-BD6F-01DC9AB93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6AC14-E4C0-4AC7-8A98-A2E3B607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E832F-8E12-4942-80F8-978EA226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6959-5108-40C9-8109-F7343871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FF609-1CE0-45AC-B9B6-173E00B0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240E1-AA2E-4EFF-BCFE-6240C81A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8DA03-0DB4-4F43-A8C6-6E4B7170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398E3-8100-4BE7-B0DA-284D5602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BEC67-20B4-490B-B3E3-18643378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B826D-FA07-42B6-8B40-5BB4BE05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85EA0-0565-45FD-A833-FA554631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A8D8B-A4C7-443A-AE2A-1D2B1EC23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45138-F147-4D48-9FDA-24FE08A32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34E71-A431-4AAF-9228-489576973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96E5-5084-43BE-9601-A5BF6FFA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2786A-4AC2-4AC0-9FA4-EFA7B7D9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4AA03-4DD7-4970-803E-92505CE2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CA82E-9E4D-47D1-B384-2BD3723D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0D732-441F-43C9-B69D-76FF0E31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158BA-1E2E-47B1-B62F-94DA17A1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66955-E9F3-4A76-8144-97789DE7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05153-D62F-47DD-9612-C8DFE63E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BAE25-C240-4E7F-96D3-89E4B9BA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077CD-4F31-4C3A-B6AA-3917C8BF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AB525-AA10-47E2-B0F2-BE11DEC46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BCBE-F39D-4845-8855-59C5BDCD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71D80-2F0D-4265-B378-291F2A3E2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78E59-7C6C-45DE-B210-C2B6F90AA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AA3C2-6B79-4058-B4E0-1A0ED551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87DAD-F628-4569-A8E2-7383C84F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3C135-3FC0-45BE-9DAC-B12D0049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59EB0-80D9-4E87-BBAB-468212C7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4C8F7-3D98-4B76-9926-9EEC6357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2BA10-78ED-41B6-AD43-D8916738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EEE9E-2716-4037-A620-1EF85DF1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42A8A-F06F-4327-B94F-5599BFF5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A3E8-AC77-4411-9B61-F47E4256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CCBC7-D7A5-4106-B23B-810F988F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180E9-6587-4A3A-A7DA-4AE60ADB3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3DD9E-979D-4AAB-8B00-7772CD22D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A080E-8300-4954-8D3D-A9B0595F7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C8B58-F401-4B81-8CAE-5DBE3036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D011A-34EE-4531-A2A4-FD715AC4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02A06-6DF8-44B6-96FD-938727DE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0C123-E027-4340-AE05-7BBB1B5B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54AF6-C171-4331-B9D9-312FC0E7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17C44-2626-44A3-A369-ED76056E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9ADD-AB61-43CC-B4B6-0A73B224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B0041-D8E5-4F16-9008-D281D843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2FF7C-D6BC-44D6-B056-75965276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B4287-AB9B-4593-BE6C-2BA8E742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AAFEC-24EF-4703-AFCF-C02ED856B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04BA9-C64C-4DBD-9968-90BAEA291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EC7B1-F921-46D1-8809-9129BAA1C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00A15-4FC2-409D-8893-44652221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E4C1C-EC4E-4D09-9AFF-0633D226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350F1-24B1-4A3A-9B67-6F1D888C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0929D-E3F9-4802-A513-48EB01E0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0AC0-485C-48C6-88A2-D3327AA5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B2DBE-0558-4D77-A69F-C5A09F52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8C4E5-F425-4629-BC00-F6DFC492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0483D-73C6-4B81-99ED-40C16F4C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2984E-7791-4F63-BAE1-1204A97E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3D8D1-0761-4AA1-B4A0-87A3037A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9525D-0388-47B9-BD7B-C47E3DD41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A6FE3-2CA1-4C87-A292-EF177C6FA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E1035B-7CCB-4206-91F5-21D27B416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57BFA-1C2B-4ECB-89B1-2B710CBB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1180D-B097-4B2A-85B6-42B6072F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1F6F-776A-4399-80E4-CE15DA98C923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B486-C861-4C56-8C3C-F7A1FBB8EE46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A35D-6C81-46CA-AC39-9F8484DF7F25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A861-BABC-45BE-AEBF-4E388EF545C2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93BB-49A6-4D46-9780-0901533332AD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C5A3-FDDD-43A2-BA79-18A75938D17F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9164-59E4-46A5-B27F-B4DF0AED24A0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4D57-567D-446E-B083-6D619CACF69A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6D67-D23C-4E1C-9E9B-C0FFAB10312C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7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9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ftr" idx="5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sldNum" idx="5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DFFB-DF1F-4FBB-A511-BB04ABBC7F3F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dt" idx="5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2914-B955-4A06-BAF7-3A5E21254D49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607A-1DF6-4AD6-BEE4-8B7C17179C45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E3F9-E4E3-4367-A489-FCCD59A8F98C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886F-1D50-409B-9182-98EC407AA635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BF1B-FE48-452D-9025-8D04B14A3422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0B34-A24D-4D97-B10E-61A92F12789C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47B6-0D13-4E2B-8594-9F66140CCACB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90EB-C94D-4EA1-9223-1331DBD6E7CD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2895120" y="1676160"/>
            <a:ext cx="624852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Форма №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0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Сведения о медицинской организаци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5" name="Rectangle 5"/>
          <p:cNvSpPr/>
          <p:nvPr/>
        </p:nvSpPr>
        <p:spPr>
          <a:xfrm>
            <a:off x="609480" y="4419720"/>
            <a:ext cx="85345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ДЕЛ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 ДЕЯТЕЛЬНОСТЬ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МЕДИЦИНСКО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ОРГАНИЗАЦИИ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ПО ОКАЗАНИ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МЕДИЦИНСКОЙ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ПОМОЩИ 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АМБУЛАТОРНЫХ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УСЛОВ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579096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</a:rPr>
              <a:t>Таблица 2105</a:t>
            </a: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95" name=""/>
          <p:cNvGraphicFramePr/>
          <p:nvPr/>
        </p:nvGraphicFramePr>
        <p:xfrm>
          <a:off x="152280" y="838080"/>
          <a:ext cx="8763120" cy="5615280"/>
        </p:xfrm>
        <a:graphic>
          <a:graphicData uri="http://schemas.openxmlformats.org/drawingml/2006/table">
            <a:tbl>
              <a:tblPr/>
              <a:tblGrid>
                <a:gridCol w="3733920"/>
                <a:gridCol w="533520"/>
                <a:gridCol w="1201680"/>
                <a:gridCol w="1008000"/>
                <a:gridCol w="762120"/>
                <a:gridCol w="152388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табл. 2100, стр. 1)  сделано посещений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ми жителями 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заболеваниям: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неотложной фор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испансерному наблюд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офилактической и иными целями: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медицинский осмо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из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ый медицинский осмо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центрах здоровь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ая помощ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рона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вижным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амбулатори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бными брига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брига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комплекс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6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697"/>
          <p:cNvSpPr/>
          <p:nvPr/>
        </p:nvSpPr>
        <p:spPr>
          <a:xfrm>
            <a:off x="4419720" y="2057400"/>
            <a:ext cx="4495680" cy="16891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Графа 3 – графа 4 = городские жители всег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Графа 5 – графа 6 = городские жители де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!!!Всего не должно быть больше чем дети по всем строка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626"/>
          <p:cNvSpPr/>
          <p:nvPr/>
        </p:nvSpPr>
        <p:spPr>
          <a:xfrm>
            <a:off x="7139520" y="4032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"/>
          <p:cNvSpPr txBox="1"/>
          <p:nvPr/>
        </p:nvSpPr>
        <p:spPr>
          <a:xfrm>
            <a:off x="152280" y="53316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</a:rPr>
              <a:t>При заполнении таблицы 2105 следует иметь в виду, что источником информации для таблицы 2105 служит Талон (форма №025-1/у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2 «в неотложной форме»: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посещение по неотложной помощи – оказание неотложной медицинской помощи лицам, обратившимся с признаками неотложных состояний (при внезапных острых заболеваниях, состояниях, обострении хронических заболеваний, не опасных для жизни и не требующих экстренной медицинской помощи) в отделение (кабинет) неотложной медицинской помощи, являющегося структурным подразделением поликлиники (врачебной амбулатории, центра общей врачебной практики (семейной медицины), а также на дому при вызове врача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3 «активных»: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Посещение на дому считается активным, если оно проводится по инициативе врача. Как правило, активно наблюдаются пациенты больные со злокачественными новообразованиями, инфекционными заболеваниями, лица пожилого и старческого возраста, инвалиды с тяжелыми заболеваниями. Данный показатель должен составлять 30–60% от общего числа посещений на дому, что зависит от таких факторов, как соотношение первичных и повторных посещений пациента; динамика и сезонность заболеваний; возможность госпитализации и др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"/>
          <p:cNvSpPr txBox="1"/>
          <p:nvPr/>
        </p:nvSpPr>
        <p:spPr>
          <a:xfrm>
            <a:off x="152280" y="53316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При заполнении таблицы 2105 следует иметь в виду, что источником информации для таблицы 2105 служит Талон (форма №025-1/у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4 «по диспансерному наблюдению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диспансерное наблюдение представляет собой динамическое наблюдение, в том числе необходимое обследование, за состоянием здоровья лиц, страдающих хроническими заболеваниями, функциональными расстройствами, иными состояниями, в целях своевременного выявления, предупреждения осложнений, обострений заболеваний, иных патологических состояний, их профилактики и осуществления медицинской реабилитации указанных лиц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1" name="Rectangle 703"/>
          <p:cNvSpPr/>
          <p:nvPr/>
        </p:nvSpPr>
        <p:spPr>
          <a:xfrm>
            <a:off x="1676520" y="3276720"/>
            <a:ext cx="6324480" cy="251460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Программе государственных гарантий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 посещение в отчетном году по поводу диспансерного наблюдения считается с профилактической цель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отчетной форме №30 учитываем по установленному порядку: Все посещения по поводу диспансерного наблюдения указываются по поводу заболе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"/>
          <p:cNvSpPr txBox="1"/>
          <p:nvPr/>
        </p:nvSpPr>
        <p:spPr>
          <a:xfrm>
            <a:off x="304560" y="762120"/>
            <a:ext cx="88390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6 «медицинский осмотр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казываются посещения, выполненные в порядке целевого профилактического осмотр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Целевые профилактические медицинские осмотры — медицинские осмотры (обследования), предпринятые с целью выявления определенных заболеваний на ранней стадии (новообразования, туберкулез, глаукома, сахарный диабет, сердечно-сосудистые заболевания и др.), охватывают различные группы организованного и неорганизованного населения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</a:rPr>
              <a:t>Включаются предварительные, периодические, медицинские осмотры спортсменов, профилактические осмотры и т.д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7 «диспансеризация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казать количество посещений, выполненных в ходе диспансеризации определенных групп взрослого населения и диспансеризация детей-сирот (форма №131 и №030/Д/с/о- 13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сведения строки 6 в строку 7 не включаются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</a:t>
            </a:r>
            <a:r>
              <a:rPr b="1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8 «комплексный медицинский осмотр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казываются посещения, выполненные в центрах здоровья и внеплановые медицинские осмотры (осмотры 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</a:rPr>
              <a:t>участников ВОВ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вне плановой диспансеризации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9 «</a:t>
            </a:r>
            <a:r>
              <a:rPr b="1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из них в центрах здоровья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казываются посещения, выполненные в центрах здоровья (в соответствии с формой №68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 txBox="1"/>
          <p:nvPr/>
        </p:nvSpPr>
        <p:spPr>
          <a:xfrm>
            <a:off x="304920" y="7617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10 «паллиативная помощь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казываются посещения, выполненные в рамках оказания паллиативной помощи в амбулаторных условиях. К ним относятся посещения с кодом по МКБ-10 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</a:rPr>
              <a:t>Z51.5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«Паллиативная помощь»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строка </a:t>
            </a: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«паллиативная помощь»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заполняется, если в организации организован кабинет (отделение) по оказанию паллиативной помощи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в данную строку включаются посещения врача кабинета противоболевой терапи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11 «патронаж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казываются посещения, выполненные врачом на дому для проведения профилактических, оздоровительных и санитарно-просветительных мероприятий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Патронаж — форма работы медицинской организации, основными целями которой являются проведение на дому оздоровительных и профилактических мероприятий, внедрение правил личной гигиены и улучшение санитарно-гигиенических условий в быту. Особенно широко используется в учреждениях охраны материнства и детства, некоторых диспансерах. Осуществляется врачами: участковыми (патронажными), диспансеров. Особой формой патронажа является уход за одинокими и престарелыми больным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12 «прочие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казываются посещения, выполненные врачом с профилактическими целями, не указанными выше. Например, посещения контактных пациентов, обследования социальных условий проживания семьи, «подворовые» обходы в сельской местности и т.д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"/>
          <p:cNvSpPr txBox="1"/>
          <p:nvPr/>
        </p:nvSpPr>
        <p:spPr>
          <a:xfrm>
            <a:off x="304920" y="7617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строка 15 «врачебные бригад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Организовывается в зависимости от конкретных условий оказания первичной медико-санитарной помощи населению в целях обеспечения ее доступности могут формироваться </a:t>
            </a: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постоянно действующие медицинские бригады, </a:t>
            </a:r>
            <a:r>
              <a:rPr b="0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состоящие </a:t>
            </a: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из врача-терапевта участкового</a:t>
            </a:r>
            <a:r>
              <a:rPr b="0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, фельдшеров, акушеров и медицинских сестер, с распределением между ними функциональных обязанностей по компетенции, исходя из установленных штатных нормативов, предназначенных для расчета количества должностей, предусмотренных для выполнения медицинской организацией возложенных на нее функций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строка 16 «мобильные медицинские бригады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Мобильная медицинская бригада организуется в структуре медицинской организации (ее структурного подразделения), оказывающей первичную медико-санитарную помощь</a:t>
            </a:r>
            <a:r>
              <a:rPr b="0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, для оказания первичной медико-санитарной помощью населения, в том числе жителей населенных пунктов с преимущественным проживанием лиц старше трудоспособного возраста либо расположенных на значительном удалении от медицинской организации и (или) имеющих плохую транспортную доступность с учетом климато-географических условий. </a:t>
            </a: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Состав мобильной медицинской бригады формируется руководителем медицинской</a:t>
            </a:r>
            <a:r>
              <a:rPr b="0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 организации (ее структурного подразделения) из числа врачей и медицинских работников со средним медицинским образованием</a:t>
            </a: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, исходя из цели ее формирования и возложенных задач</a:t>
            </a:r>
            <a:r>
              <a:rPr b="0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1295280" y="376200"/>
            <a:ext cx="65534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</a:rPr>
              <a:t>Таблица 2106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06" name=""/>
          <p:cNvGraphicFramePr/>
          <p:nvPr/>
        </p:nvGraphicFramePr>
        <p:xfrm>
          <a:off x="380880" y="800280"/>
          <a:ext cx="8382240" cy="1401480"/>
        </p:xfrm>
        <a:graphic>
          <a:graphicData uri="http://schemas.openxmlformats.org/drawingml/2006/table">
            <a:tbl>
              <a:tblPr/>
              <a:tblGrid>
                <a:gridCol w="4191120"/>
                <a:gridCol w="4191120"/>
              </a:tblGrid>
              <a:tr h="640440">
                <a:tc gridSpan="2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 по поводу заболеваний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1 __, из них: сельских жителей  2 __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21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0-17 лет (из стр. 1) 3 _____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 (из стр.3) 4__,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7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174"/>
          <p:cNvSpPr/>
          <p:nvPr/>
        </p:nvSpPr>
        <p:spPr>
          <a:xfrm>
            <a:off x="235080" y="2190600"/>
            <a:ext cx="8686800" cy="279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Обращение включает в себя одно или несколько посещений пациента, в результате которых цель обращения достигнут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 зависимости от цели обращения подразделяются на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- обращения по поводу заболеваний, травм, отравлений и некоторых друг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оследствий воздействия внешних причин (коды A00 - T98 МКБ-10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- обращения с профилактической целью (коды Z00 - Z99 МКБ-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ведения, указанные в таблице 2106, должны быть меньше, чем данные указанные в таблице 2100 по строке 1 в соответствующих графа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Кратность посещений в среднем по медицинским организациям составляет – на одно обращение 3-3,5 посещения (кроме специализированных ЛПУ, например: психиатрическая, фтизиопульмонологическая больницы и т.п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Овал 5"/>
          <p:cNvSpPr/>
          <p:nvPr/>
        </p:nvSpPr>
        <p:spPr>
          <a:xfrm>
            <a:off x="235080" y="5156280"/>
            <a:ext cx="8391240" cy="1092240"/>
          </a:xfrm>
          <a:prstGeom prst="ellipse">
            <a:avLst/>
          </a:prstGeom>
          <a:noFill/>
          <a:ln cap="rnd" w="31680">
            <a:solidFill>
              <a:srgbClr val="c000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object 36"/>
          <p:cNvSpPr/>
          <p:nvPr/>
        </p:nvSpPr>
        <p:spPr>
          <a:xfrm>
            <a:off x="685800" y="5410080"/>
            <a:ext cx="2257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о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повторно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2600"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 </a:t>
            </a:r>
            <a:r>
              <a:rPr b="1" lang="ru-RU" sz="2100" spc="-1" strike="noStrike" baseline="32000">
                <a:solidFill>
                  <a:srgbClr val="000000"/>
                </a:solidFill>
                <a:latin typeface="Times New Roman"/>
                <a:ea typeface="Times New Roman"/>
              </a:rPr>
              <a:t>+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object 39"/>
          <p:cNvSpPr/>
          <p:nvPr/>
        </p:nvSpPr>
        <p:spPr>
          <a:xfrm>
            <a:off x="3124080" y="5486400"/>
            <a:ext cx="13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object 37"/>
          <p:cNvSpPr/>
          <p:nvPr/>
        </p:nvSpPr>
        <p:spPr>
          <a:xfrm>
            <a:off x="3352680" y="5410080"/>
            <a:ext cx="10828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8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повторно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8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object 32"/>
          <p:cNvSpPr/>
          <p:nvPr/>
        </p:nvSpPr>
        <p:spPr>
          <a:xfrm>
            <a:off x="4495680" y="5562720"/>
            <a:ext cx="1065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object 41"/>
          <p:cNvSpPr/>
          <p:nvPr/>
        </p:nvSpPr>
        <p:spPr>
          <a:xfrm>
            <a:off x="5181480" y="5410080"/>
            <a:ext cx="576360" cy="432000"/>
          </a:xfrm>
          <a:custGeom>
            <a:avLst/>
            <a:gdLst>
              <a:gd name="textAreaLeft" fmla="*/ 0 w 576360"/>
              <a:gd name="textAreaRight" fmla="*/ 576720 w 576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576579" h="431800">
                <a:moveTo>
                  <a:pt x="360172" y="0"/>
                </a:moveTo>
                <a:lnTo>
                  <a:pt x="360172" y="107950"/>
                </a:lnTo>
                <a:lnTo>
                  <a:pt x="0" y="107950"/>
                </a:lnTo>
                <a:lnTo>
                  <a:pt x="108076" y="215900"/>
                </a:lnTo>
                <a:lnTo>
                  <a:pt x="0" y="323850"/>
                </a:lnTo>
                <a:lnTo>
                  <a:pt x="360172" y="323850"/>
                </a:lnTo>
                <a:lnTo>
                  <a:pt x="360172" y="431800"/>
                </a:lnTo>
                <a:lnTo>
                  <a:pt x="576326" y="215900"/>
                </a:lnTo>
                <a:lnTo>
                  <a:pt x="360172" y="0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object 38"/>
          <p:cNvSpPr/>
          <p:nvPr/>
        </p:nvSpPr>
        <p:spPr>
          <a:xfrm>
            <a:off x="6095880" y="5410080"/>
            <a:ext cx="20354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30120" indent="-317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ОБРАЩЕНИЯ ДОСТИГНУ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</a:rPr>
              <a:t>Таблица 2700.</a:t>
            </a: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262626"/>
                </a:solidFill>
                <a:latin typeface="Times New Roman"/>
              </a:rPr>
              <a:t>Работа стоматологического кабинета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17" name=""/>
          <p:cNvGraphicFramePr/>
          <p:nvPr/>
        </p:nvGraphicFramePr>
        <p:xfrm>
          <a:off x="152280" y="1143000"/>
          <a:ext cx="8763120" cy="4092480"/>
        </p:xfrm>
        <a:graphic>
          <a:graphicData uri="http://schemas.openxmlformats.org/drawingml/2006/table">
            <a:tbl>
              <a:tblPr/>
              <a:tblGrid>
                <a:gridCol w="3810240"/>
                <a:gridCol w="609480"/>
                <a:gridCol w="1008000"/>
                <a:gridCol w="1241640"/>
                <a:gridCol w="2093760"/>
              </a:tblGrid>
              <a:tr h="5806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ген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зубных врачей и  гигиенистов стоматологическ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ичных 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с профилактической и иными  цел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зубными врач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стами стоматологически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тр. 1:  дети до 14 лет включительн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15-17 лет включ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е жители (из стр.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ередвижных стоматологических кабинет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8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353"/>
          <p:cNvSpPr/>
          <p:nvPr/>
        </p:nvSpPr>
        <p:spPr>
          <a:xfrm>
            <a:off x="190440" y="6167520"/>
            <a:ext cx="86868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*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Первичным считается первое посещение за стоматологической помощью в отчетном году по любому повод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355"/>
          <p:cNvSpPr/>
          <p:nvPr/>
        </p:nvSpPr>
        <p:spPr>
          <a:xfrm>
            <a:off x="4572000" y="2708280"/>
            <a:ext cx="4419720" cy="175248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 таблицу включаются и сведения о деятельности гигиенистов стоматологических и зубных врачей, в том числе зубных врачей здравпунктов, стоматологических кабинетов учебных заведений и предприятий,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если они состоят в штате медицинской организаци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360"/>
          <p:cNvSpPr/>
          <p:nvPr/>
        </p:nvSpPr>
        <p:spPr>
          <a:xfrm>
            <a:off x="4600440" y="5486400"/>
            <a:ext cx="4391280" cy="533520"/>
          </a:xfrm>
          <a:prstGeom prst="rect">
            <a:avLst/>
          </a:prstGeom>
          <a:solidFill>
            <a:srgbClr val="fb9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1 должна быть равна сумме строк 2+3 по всем граф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360"/>
          <p:cNvSpPr/>
          <p:nvPr/>
        </p:nvSpPr>
        <p:spPr>
          <a:xfrm>
            <a:off x="4600440" y="4548240"/>
            <a:ext cx="4419720" cy="80964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Деятельность гигиенистов стоматологических указывается только с профилактической цель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</a:rPr>
              <a:t>Таблица 2700 (продолжение)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24" name=""/>
          <p:cNvGraphicFramePr/>
          <p:nvPr/>
        </p:nvGraphicFramePr>
        <p:xfrm>
          <a:off x="152280" y="838080"/>
          <a:ext cx="8763120" cy="4000680"/>
        </p:xfrm>
        <a:graphic>
          <a:graphicData uri="http://schemas.openxmlformats.org/drawingml/2006/table">
            <a:tbl>
              <a:tblPr/>
              <a:tblGrid>
                <a:gridCol w="1133640"/>
                <a:gridCol w="460440"/>
                <a:gridCol w="608040"/>
                <a:gridCol w="560160"/>
                <a:gridCol w="789120"/>
                <a:gridCol w="623880"/>
                <a:gridCol w="625320"/>
                <a:gridCol w="608040"/>
                <a:gridCol w="790560"/>
                <a:gridCol w="608040"/>
                <a:gridCol w="574920"/>
                <a:gridCol w="591840"/>
                <a:gridCol w="789120"/>
              </a:tblGrid>
              <a:tr h="37620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г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лечено зуб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лено зуб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стоя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саниров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ческая рабо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 курс профилакт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 объем работы в УЕТ (из 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осложненного карие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отрено в порядке плановой сан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2 нуждались в сан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3 саниров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зубными врач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стами стоматологически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5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1520"/>
          <p:cNvSpPr/>
          <p:nvPr/>
        </p:nvSpPr>
        <p:spPr>
          <a:xfrm>
            <a:off x="152280" y="5181480"/>
            <a:ext cx="8763120" cy="13147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 графе 11 показывается общее число санированных, как по обращаемости, так и во время профилактической работ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 графе 16 указывается общий объем выполненной работы, выраженный в условных единицах трудоемкости (УЕТ). Выполненный объем работы в УЕТах указывается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в тысячах единиц с одним знаком после запят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1521"/>
          <p:cNvSpPr/>
          <p:nvPr/>
        </p:nvSpPr>
        <p:spPr>
          <a:xfrm>
            <a:off x="1828800" y="3124080"/>
            <a:ext cx="7086600" cy="5335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ница между графами 11 и 14 по всем строкам должна быть на санированных при обращении пациента за медицинской помощь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1524"/>
          <p:cNvSpPr/>
          <p:nvPr/>
        </p:nvSpPr>
        <p:spPr>
          <a:xfrm>
            <a:off x="1752480" y="4302000"/>
            <a:ext cx="7010640" cy="5335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Объем выполненных работ гигиенистами стоматологическим в УЕТах (графа 16) указыва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</a:rPr>
              <a:t>Таблица 2710.</a:t>
            </a: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262626"/>
                </a:solidFill>
                <a:latin typeface="Times New Roman"/>
              </a:rPr>
              <a:t>Работа врачей-стоматологов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30" name=""/>
          <p:cNvGraphicFramePr/>
          <p:nvPr/>
        </p:nvGraphicFramePr>
        <p:xfrm>
          <a:off x="152280" y="1143000"/>
          <a:ext cx="8534520" cy="3833640"/>
        </p:xfrm>
        <a:graphic>
          <a:graphicData uri="http://schemas.openxmlformats.org/drawingml/2006/table">
            <a:tbl>
              <a:tblPr/>
              <a:tblGrid>
                <a:gridCol w="3408480"/>
                <a:gridCol w="655560"/>
                <a:gridCol w="930240"/>
                <a:gridCol w="1101960"/>
                <a:gridCol w="672840"/>
                <a:gridCol w="874800"/>
                <a:gridCol w="890640"/>
              </a:tblGrid>
              <a:tr h="7315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г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Число посещений врачей-стоматолог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(из т. 2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лечено зуб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ервичных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осложненного карие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тр. 1: дети до 14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ительн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15-17 лет включ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е жители (из стр.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ередвижных стоматологических кабинет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1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70"/>
          <p:cNvSpPr/>
          <p:nvPr/>
        </p:nvSpPr>
        <p:spPr>
          <a:xfrm>
            <a:off x="228600" y="609588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*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Первичным считается первое посещение за стоматологической помощью в отчетном году по любому повод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3"/>
          <p:cNvSpPr/>
          <p:nvPr/>
        </p:nvSpPr>
        <p:spPr>
          <a:xfrm>
            <a:off x="4114800" y="3048120"/>
            <a:ext cx="4648320" cy="83808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1 по графе 3 должна быть равна сумме посещений, указанных в таблице 2100 по сумме строк 86+87+89+90 и сумме граф 3+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85"/>
          <p:cNvSpPr/>
          <p:nvPr/>
        </p:nvSpPr>
        <p:spPr>
          <a:xfrm>
            <a:off x="4114800" y="5105520"/>
            <a:ext cx="4648320" cy="83808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6 по графе 3 должна быть равна сумме посещений, указанных в таблице 2100 по сумме строк 86+87+89+90 и сумме граф 4+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586"/>
          <p:cNvSpPr/>
          <p:nvPr/>
        </p:nvSpPr>
        <p:spPr>
          <a:xfrm>
            <a:off x="4114800" y="3962520"/>
            <a:ext cx="4648320" cy="106668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умма строк 4+5 по графе 3 должна быть равна сумме посещений, указанных в таблице 2100 по сумме строк 86+87+89+90 и сумме граф 5+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 txBox="1"/>
          <p:nvPr/>
        </p:nvSpPr>
        <p:spPr>
          <a:xfrm>
            <a:off x="457200" y="990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Посещение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– это контакт пациента с врачом медицинской организации или подразделения, оказывающего медицинскую помощь в амбулаторных условиях по любому поводу с последующей записью в «Медицинской карте пациента, получающего медицинскую помощь в амбулаторных условиях» (форма № 025/у),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включающей жалобы, анамнез, объективные данные,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постановку диагноза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: основного, фонового, конкурирующего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и сопутствующих заболеваний, травм, отравлений с кодами их по МКБ-10, группу здоровья,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назначенное  лечение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, обследование, а также результаты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обследования и  динамического наблюдения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Обращение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– это повод визита пациента в поликлинику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Цель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– по поводу заболевания (диспансерное наблюдение, неотложное состояние и т.д.), с профилактической целью (медицинский осмотр, диспансеризация и т.д.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Обращение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может состоять из одного или нескольких посещений пациента, в результате которых цель обращения достигнута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2895480" y="1676160"/>
            <a:ext cx="59436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важаемые коллеги, необходимо внимательно проработать контроли,  в программе «Медстат»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1800"/>
            </a:b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в амбулаторных условиях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48" name=""/>
          <p:cNvGraphicFramePr/>
          <p:nvPr/>
        </p:nvGraphicFramePr>
        <p:xfrm>
          <a:off x="76320" y="1066680"/>
          <a:ext cx="8839080" cy="5732640"/>
        </p:xfrm>
        <a:graphic>
          <a:graphicData uri="http://schemas.openxmlformats.org/drawingml/2006/table">
            <a:tbl>
              <a:tblPr/>
              <a:tblGrid>
                <a:gridCol w="1447560"/>
                <a:gridCol w="457200"/>
                <a:gridCol w="838440"/>
                <a:gridCol w="609480"/>
                <a:gridCol w="609480"/>
                <a:gridCol w="533520"/>
                <a:gridCol w="609480"/>
                <a:gridCol w="609840"/>
                <a:gridCol w="533160"/>
                <a:gridCol w="685800"/>
                <a:gridCol w="685800"/>
                <a:gridCol w="533520"/>
                <a:gridCol w="685800"/>
              </a:tblGrid>
              <a:tr h="8226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из гр.3) сделано по поводу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врачами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-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и 18 лет и боле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ельских жит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9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2: по поводу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аллиативн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ного отд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стр.1): в отделениях, кабинетах, пунктах неотложной мед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39943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39943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3994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отделениях, кабинетах паллиативной мед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9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1694"/>
          <p:cNvSpPr/>
          <p:nvPr/>
        </p:nvSpPr>
        <p:spPr>
          <a:xfrm>
            <a:off x="1924200" y="3343320"/>
            <a:ext cx="7010280" cy="48240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 строку 65 «приемного отделения» включены посещения приемного отделения к врачам различных специальност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1697"/>
          <p:cNvSpPr/>
          <p:nvPr/>
        </p:nvSpPr>
        <p:spPr>
          <a:xfrm>
            <a:off x="7363440" y="4572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1694"/>
          <p:cNvSpPr/>
          <p:nvPr/>
        </p:nvSpPr>
        <p:spPr>
          <a:xfrm>
            <a:off x="1924200" y="2765520"/>
            <a:ext cx="7010280" cy="501480"/>
          </a:xfrm>
          <a:prstGeom prst="rect">
            <a:avLst/>
          </a:prstGeom>
          <a:solidFill>
            <a:srgbClr val="e3e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 строку 60 «по паллиативной медицинской помощи» включаются посещения только с профилактической цель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1698"/>
          <p:cNvSpPr/>
          <p:nvPr/>
        </p:nvSpPr>
        <p:spPr>
          <a:xfrm>
            <a:off x="1914480" y="3902040"/>
            <a:ext cx="7010280" cy="1298520"/>
          </a:xfrm>
          <a:prstGeom prst="rect">
            <a:avLst/>
          </a:prstGeom>
          <a:solidFill>
            <a:srgbClr val="8399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у 123 вносятся посещения врачей-специалистов, оказывающих помощь в отделении (кабинете) неотложной медицинской помощи (при наличии его в структуре поликлиники медицинской организации), а также при оказании неотложной медицинской помощи на дом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1698"/>
          <p:cNvSpPr/>
          <p:nvPr/>
        </p:nvSpPr>
        <p:spPr>
          <a:xfrm>
            <a:off x="1924200" y="5251320"/>
            <a:ext cx="7010280" cy="1492560"/>
          </a:xfrm>
          <a:prstGeom prst="rect">
            <a:avLst/>
          </a:prstGeom>
          <a:solidFill>
            <a:srgbClr val="e3e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у 124 вносятся посещения врачей-специалистов, оказывающих паллиативную медицинскую помощь в отделении (кабинете) паллиативной медицинской помощи (при наличии его в структуре поликлиники медицинской организации), а также при оказании паллиативной медицинской помощи патронажными службами на дому. Посещения указываются только с профилактической цель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67057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1800"/>
            </a:b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в амбулаторных условиях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6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1698"/>
          <p:cNvSpPr/>
          <p:nvPr/>
        </p:nvSpPr>
        <p:spPr>
          <a:xfrm>
            <a:off x="504720" y="752400"/>
            <a:ext cx="8382240" cy="176220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К строке 123 - В соответствии с приказом МЗ РФ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15 мая 2012 г. № 543н «Положение об организации оказания первичной медико-санитарной помощи взрослому населению» и приложением №5 «Правила организации деятельности отделения (кабинета) неотложной медицинской помощи» - оказание неотложной медицинской помощи лицам, обратившимся с признаками неотложных состояний, может осуществляться в амбулаторных условиях или на дому при вызове медицинского работник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1698"/>
          <p:cNvSpPr/>
          <p:nvPr/>
        </p:nvSpPr>
        <p:spPr>
          <a:xfrm>
            <a:off x="533520" y="2619360"/>
            <a:ext cx="8381880" cy="40957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К строке 124 - В соответствии с приказом МЗ РФ от 14.04.2015 №187н «Об утверждении Порядка оказания паллиативной медицинской помощи взрослому населению» и в соответствии с приложениями 1-6, 10-12 к настоящему Порядку - паллиативная медицинская помощь в амбулаторных условиях оказывается в кабинетах паллиативной медицинской помощи и выездными патронажными службами паллиативной медицинской помощи, созданными в медицинских организациях (в том числе в хосписах) на основе взаимодействия врачей-терапевтов, врачей-терапевтов участковых, врачей общей практики (семейных врачей), врачей по паллиативной медицинской помощи, иных врачей-специалистов и медицинских работник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риказом МЗ РФ от 14.04.2015 №193н «Об утверждении Порядка оказания паллиативной медицинской помощи детям» оказание паллиативной медицинской помощи детям осуществляется: врачами-педиатрами участковыми, врачами общей практики (семейными врачами), врачами-педиатрами, врачами по паллиативной медицинской помощи, прошедшими обучение по дополнительным профессиональным программам повышения квалификации) по вопросам оказания паллиативной медицинской помощи детя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1697"/>
          <p:cNvSpPr/>
          <p:nvPr/>
        </p:nvSpPr>
        <p:spPr>
          <a:xfrm>
            <a:off x="7236000" y="285840"/>
            <a:ext cx="1677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дол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1800"/>
            </a:b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в амбулаторных условиях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1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2" name=""/>
          <p:cNvGraphicFramePr/>
          <p:nvPr/>
        </p:nvGraphicFramePr>
        <p:xfrm>
          <a:off x="304920" y="1066680"/>
          <a:ext cx="8610480" cy="5456520"/>
        </p:xfrm>
        <a:graphic>
          <a:graphicData uri="http://schemas.openxmlformats.org/drawingml/2006/table">
            <a:tbl>
              <a:tblPr/>
              <a:tblGrid>
                <a:gridCol w="2819160"/>
                <a:gridCol w="762120"/>
                <a:gridCol w="990720"/>
                <a:gridCol w="838080"/>
                <a:gridCol w="762120"/>
                <a:gridCol w="761760"/>
                <a:gridCol w="757440"/>
                <a:gridCol w="919080"/>
              </a:tblGrid>
              <a:tr h="63936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из гр.3) сделано по поводу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и 18 лет и боле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нуальной терап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2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лечебной физкульту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едицинской реабили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5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терапев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7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отерапев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8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отерапев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10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Кроме того, псих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3" name="Text Box 1697"/>
          <p:cNvSpPr/>
          <p:nvPr/>
        </p:nvSpPr>
        <p:spPr>
          <a:xfrm>
            <a:off x="7368120" y="4572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310"/>
          <p:cNvSpPr/>
          <p:nvPr/>
        </p:nvSpPr>
        <p:spPr>
          <a:xfrm>
            <a:off x="4211640" y="2590920"/>
            <a:ext cx="4343400" cy="459720"/>
          </a:xfrm>
          <a:prstGeom prst="rect">
            <a:avLst/>
          </a:prstGeom>
          <a:solidFill>
            <a:srgbClr val="e3e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Добавлены стро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310"/>
          <p:cNvSpPr/>
          <p:nvPr/>
        </p:nvSpPr>
        <p:spPr>
          <a:xfrm>
            <a:off x="4211640" y="3267000"/>
            <a:ext cx="4343400" cy="119124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рядок остается прежним: 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  <a:ea typeface="Arial"/>
              </a:rPr>
              <a:t>Указываются посещения по вспомогательных подразделений только в случае «ведения» пациен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Rectangle 915"/>
          <p:cNvSpPr/>
          <p:nvPr/>
        </p:nvSpPr>
        <p:spPr>
          <a:xfrm>
            <a:off x="3895560" y="4876920"/>
            <a:ext cx="5029200" cy="164628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entury Gothic"/>
                <a:ea typeface="Arial"/>
              </a:rPr>
              <a:t>По стр.125 графы «По поводу заболевания» не заполняютс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Основные функции: Разработка развивающих и психокоррекционных программ по восстановлению здоровья больных и  проведение психодиагностических исследовани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1800"/>
            </a:b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в амбулаторных условиях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8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9" name=""/>
          <p:cNvGraphicFramePr/>
          <p:nvPr/>
        </p:nvGraphicFramePr>
        <p:xfrm>
          <a:off x="304920" y="1066680"/>
          <a:ext cx="8610480" cy="5456520"/>
        </p:xfrm>
        <a:graphic>
          <a:graphicData uri="http://schemas.openxmlformats.org/drawingml/2006/table">
            <a:tbl>
              <a:tblPr/>
              <a:tblGrid>
                <a:gridCol w="2819160"/>
                <a:gridCol w="762120"/>
                <a:gridCol w="990720"/>
                <a:gridCol w="838080"/>
                <a:gridCol w="762120"/>
                <a:gridCol w="761760"/>
                <a:gridCol w="757440"/>
                <a:gridCol w="919080"/>
              </a:tblGrid>
              <a:tr h="63936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из гр.3) сделано по поводу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и 18 лет и боле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нуальной терап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2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лечебной физкульту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едицинской реабили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5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терапев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7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отерапев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8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отерапев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10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Кроме того, псих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0" name="Text Box 1697"/>
          <p:cNvSpPr/>
          <p:nvPr/>
        </p:nvSpPr>
        <p:spPr>
          <a:xfrm>
            <a:off x="7368120" y="4572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Rectangle 915"/>
          <p:cNvSpPr/>
          <p:nvPr/>
        </p:nvSpPr>
        <p:spPr>
          <a:xfrm>
            <a:off x="1676520" y="2209680"/>
            <a:ext cx="6933960" cy="426744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entury Gothic"/>
                <a:ea typeface="Arial"/>
              </a:rPr>
              <a:t>стр.125 «Психологи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entury Gothic"/>
                <a:ea typeface="Arial"/>
              </a:rPr>
              <a:t>заполняется на основании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Arial"/>
              </a:rPr>
              <a:t>журнала ежедневного учета психологических консультаци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оторый включает в себя следующие пункты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число первичных пациентов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число повторных пациентов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оличество консультаций по видам психологической помощи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и этом отдельно выделяются графы по учету консультаций, проводимых в стационаре или на дом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в амбулаторно-поликлиническом учреждении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журнал ведется ежедневн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1800"/>
            </a:b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в амбулаторных условиях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3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4" name=""/>
          <p:cNvGraphicFramePr/>
          <p:nvPr/>
        </p:nvGraphicFramePr>
        <p:xfrm>
          <a:off x="76320" y="1066680"/>
          <a:ext cx="8839080" cy="4600800"/>
        </p:xfrm>
        <a:graphic>
          <a:graphicData uri="http://schemas.openxmlformats.org/drawingml/2006/table">
            <a:tbl>
              <a:tblPr/>
              <a:tblGrid>
                <a:gridCol w="1295280"/>
                <a:gridCol w="457200"/>
                <a:gridCol w="685800"/>
                <a:gridCol w="762120"/>
                <a:gridCol w="990360"/>
                <a:gridCol w="533520"/>
                <a:gridCol w="533520"/>
                <a:gridCol w="457200"/>
                <a:gridCol w="533160"/>
                <a:gridCol w="685800"/>
                <a:gridCol w="685800"/>
                <a:gridCol w="533520"/>
                <a:gridCol w="685800"/>
              </a:tblGrid>
              <a:tr h="82260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из гр.3) сделано по поводу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врачами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-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и 18 лет и боле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ельских жит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9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2: по поводу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d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7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4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db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частковые педиа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4200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3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db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диатры городские, райо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db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5" name="Text Box 1697"/>
          <p:cNvSpPr/>
          <p:nvPr/>
        </p:nvSpPr>
        <p:spPr>
          <a:xfrm>
            <a:off x="7363440" y="4572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190"/>
          <p:cNvSpPr/>
          <p:nvPr/>
        </p:nvSpPr>
        <p:spPr>
          <a:xfrm>
            <a:off x="5334120" y="3200400"/>
            <a:ext cx="1752480" cy="131076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ниц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. 45 – 46 – 47 по гр. 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должна быть больше гр.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Text Box 191"/>
          <p:cNvSpPr/>
          <p:nvPr/>
        </p:nvSpPr>
        <p:spPr>
          <a:xfrm>
            <a:off x="7162920" y="3200400"/>
            <a:ext cx="1676160" cy="131076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ниц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. 45 – 46 – 47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о гр. 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должна быть больше гр.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Text Box 192"/>
          <p:cNvSpPr/>
          <p:nvPr/>
        </p:nvSpPr>
        <p:spPr>
          <a:xfrm>
            <a:off x="5334120" y="4572000"/>
            <a:ext cx="3581280" cy="58068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ница стр. 45 – 46 – 47 по гр. 4 должна быть больше гр.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Text Box 193"/>
          <p:cNvSpPr/>
          <p:nvPr/>
        </p:nvSpPr>
        <p:spPr>
          <a:xfrm>
            <a:off x="5334120" y="5257800"/>
            <a:ext cx="3504960" cy="33732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И т.д. по всем граф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194"/>
          <p:cNvSpPr/>
          <p:nvPr/>
        </p:nvSpPr>
        <p:spPr>
          <a:xfrm>
            <a:off x="152280" y="5715000"/>
            <a:ext cx="8763120" cy="580680"/>
          </a:xfrm>
          <a:prstGeom prst="rect">
            <a:avLst/>
          </a:prstGeom>
          <a:solidFill>
            <a:srgbClr val="fb9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рить аналогичные контроли по всем специальностям врачей, имеющих «входящие» строки. То есть, стр. 5 – акушеры гинекологи, стр. 67 – психиатры, стр. 69 – психиатры детские и т.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196"/>
          <p:cNvSpPr/>
          <p:nvPr/>
        </p:nvSpPr>
        <p:spPr>
          <a:xfrm>
            <a:off x="3276720" y="3657600"/>
            <a:ext cx="1981080" cy="179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Например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990033"/>
                </a:solidFill>
                <a:uFillTx/>
                <a:latin typeface="Times New Roman"/>
                <a:ea typeface="Arial"/>
              </a:rPr>
              <a:t>по гр. 3: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5000-4200-400=400 </a:t>
            </a:r>
            <a:r>
              <a:rPr b="1" lang="ru-RU" sz="1600" spc="-1" strike="noStrike" u="sng">
                <a:solidFill>
                  <a:srgbClr val="990033"/>
                </a:solidFill>
                <a:uFillTx/>
                <a:latin typeface="Times New Roman"/>
                <a:ea typeface="Arial"/>
              </a:rPr>
              <a:t>по гр. 4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4800-3900-370=530   т.е. гр. 3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&lt; 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гр. 4       ОШИБКА!!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Text Box 194"/>
          <p:cNvSpPr/>
          <p:nvPr/>
        </p:nvSpPr>
        <p:spPr>
          <a:xfrm>
            <a:off x="152280" y="5667480"/>
            <a:ext cx="8763120" cy="58068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рить аналогичные контроли по всем специальностям врачей, имеющих «входящие» строки. То есть, стр. 5 – акушеры гинекологи, стр. 67 – психиатры, стр. 69 – психиатры детские и т.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</a:rPr>
              <a:t>Таблица 2101</a:t>
            </a: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84" name=""/>
          <p:cNvGraphicFramePr/>
          <p:nvPr/>
        </p:nvGraphicFramePr>
        <p:xfrm>
          <a:off x="152280" y="914400"/>
          <a:ext cx="8763120" cy="4038480"/>
        </p:xfrm>
        <a:graphic>
          <a:graphicData uri="http://schemas.openxmlformats.org/drawingml/2006/table">
            <a:tbl>
              <a:tblPr/>
              <a:tblGrid>
                <a:gridCol w="5257800"/>
                <a:gridCol w="762120"/>
                <a:gridCol w="2743200"/>
              </a:tblGrid>
              <a:tr h="554040"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я к среднему медицинскому персоналу 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на ФАПах (включая посещения на дому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на передвижны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фельдшерских пункта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на передвижны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пунктах (кабинетах) неотложной медицинской помощи 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ому населению 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ому населению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ому населению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5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628"/>
          <p:cNvSpPr/>
          <p:nvPr/>
        </p:nvSpPr>
        <p:spPr>
          <a:xfrm>
            <a:off x="6172200" y="3309840"/>
            <a:ext cx="2743200" cy="1033560"/>
          </a:xfrm>
          <a:prstGeom prst="rect">
            <a:avLst/>
          </a:prstGeom>
          <a:solidFill>
            <a:srgbClr val="fb9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нутриформенный контроль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4 = сумме строк 4.2+4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628"/>
          <p:cNvSpPr/>
          <p:nvPr/>
        </p:nvSpPr>
        <p:spPr>
          <a:xfrm>
            <a:off x="6172200" y="1219320"/>
            <a:ext cx="2724120" cy="2054160"/>
          </a:xfrm>
          <a:prstGeom prst="rect">
            <a:avLst/>
          </a:prstGeom>
          <a:solidFill>
            <a:srgbClr val="e3e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Из общего числа посещений к среднему медицинскому персоналу (стр. 1), в строке 4 указываются посещения среднего медицинского персонала пунктов (кабинетов) неотложной медицинской помощи, включая пункты на дом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2"/>
          <p:cNvSpPr/>
          <p:nvPr/>
        </p:nvSpPr>
        <p:spPr>
          <a:xfrm>
            <a:off x="152280" y="4724280"/>
            <a:ext cx="8744040" cy="1935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 строке 1 таблицы 2101 указываются посещения среднего медицинского персонала на самостоятельном приеме во врачебных амбулаторно-поликлинических учреждениях, на врачебных и фельдшерских здравпунктах, ФАПах и фельдшерских пунктах, включая передвиж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438840" algn="just">
              <a:lnSpc>
                <a:spcPct val="100000"/>
              </a:lnSpc>
              <a:buClr>
                <a:srgbClr val="e3ea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сещения к зубным врачам и гигиенистам стоматологическими в таблицу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не включаются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учет деятельности ведется в таблице 270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579096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</a:rPr>
              <a:t>Таблица 2105</a:t>
            </a: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90" name=""/>
          <p:cNvGraphicFramePr/>
          <p:nvPr/>
        </p:nvGraphicFramePr>
        <p:xfrm>
          <a:off x="152280" y="838080"/>
          <a:ext cx="8763120" cy="5681880"/>
        </p:xfrm>
        <a:graphic>
          <a:graphicData uri="http://schemas.openxmlformats.org/drawingml/2006/table">
            <a:tbl>
              <a:tblPr/>
              <a:tblGrid>
                <a:gridCol w="3733920"/>
                <a:gridCol w="533520"/>
                <a:gridCol w="1201680"/>
                <a:gridCol w="1008000"/>
                <a:gridCol w="762120"/>
                <a:gridCol w="152388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табл. 2100, стр. 1)  сделано посещений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ми жителями 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заболеваниям: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неотложной фор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испансерному наблюд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офилактической и иными целями: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медицинский осмо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из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ый медицинский осмо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центрах здоровь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ая помощ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рона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вижным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амбулатори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бными брига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брига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комплекс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1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703"/>
          <p:cNvSpPr/>
          <p:nvPr/>
        </p:nvSpPr>
        <p:spPr>
          <a:xfrm>
            <a:off x="4495680" y="2666880"/>
            <a:ext cx="4419720" cy="228600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я, выполненные передвижными подразделениями, указываются из общего числа посещений (по заболеваниям и с профилактическими и иными целями). Также наличие передвижных подразделений и количество выездов  должно быть отображено в таблице 100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Text Box 626"/>
          <p:cNvSpPr/>
          <p:nvPr/>
        </p:nvSpPr>
        <p:spPr>
          <a:xfrm>
            <a:off x="7139520" y="4032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03:44:48Z</dcterms:created>
  <dc:creator>Шиблаков Иван Петрович</dc:creator>
  <dc:description/>
  <dc:language>en-US</dc:language>
  <cp:lastModifiedBy>classuser</cp:lastModifiedBy>
  <cp:lastPrinted>2018-11-07T07:41:24Z</cp:lastPrinted>
  <dcterms:modified xsi:type="dcterms:W3CDTF">2019-12-08T11:35:56Z</dcterms:modified>
  <cp:revision>68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